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FA9-9CE6-4C05-92F7-E2D17349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CFA-8FDF-4662-9167-F2D97BE8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DF9-D53F-481A-9CBF-0A060A34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DFA-F1A7-44F4-9523-855F875D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1EA3-DA8B-4BD9-862F-125E2483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EEC3-CF16-4C80-A9BE-54994ED5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F250-C710-489E-ABD0-81E94E5C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4B8B-1D36-4397-93D1-5D1D7DDE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C544-0006-48FE-A289-E79C15C6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24D0-8967-4ECA-A84A-38108A35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03C6-81B5-46D8-9EEB-404E6807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B29-609D-4733-B5E3-96C25CDA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DA40-DF8A-4064-8F0D-7C261862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548A-5E61-48A2-A11D-4E58AFE7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92EF-45E7-45D1-9460-B00F6980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9B3F-AFFA-4746-8600-BAF35B9E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4B22-4057-46EB-9E4C-01A5B87E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A8C26-5BE9-4D73-817A-BED1211D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A57EB-56DF-4E31-9F1B-8139B129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44FE4-45C1-42A0-80AE-FB9BECD1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2DC05-813A-45F6-9B77-EFA723A0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7B91F-8683-4E49-BE75-B021441D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A2B-259F-42AE-8A52-EEFEA49D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E1A7-770F-430A-80D9-D31EBCEF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45E2-3626-471A-88C3-FB72CBE9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D1E00-0A02-4A50-A74C-5BDD71FC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141F9-A165-4A0E-8510-94C5533C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72C37-5C98-4044-9919-BFC40ACB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3D58D-935D-48B6-8643-6E3C435C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5E227-28D9-4DC9-AA6E-739951FD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F8FB7-CFC8-48C7-869F-F681D467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A883F-8C1B-4918-AA9F-3A31E1D3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C9967-D293-4C2B-8660-0C918958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47D-F5D0-4CD8-9F99-4631B13B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63649-B527-47FB-9CD9-6C81F9D1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80D67-57D9-4934-AFDE-1810EC9E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0ED8C-38FC-44CB-9CFA-3327DFAC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BFB0F-2A89-470D-BC38-74CD5A7D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73B10-F323-4D49-99C6-4AE10CE3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11B0D-1DBD-458A-B4A3-8C2C1072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D007F-12CE-489C-8EEA-122909E9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380BC-84CB-4482-AE56-12F9367D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7B57B-71E8-4901-950A-D2D6B71C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227F5-5CAC-4FDB-8B40-0B2E362F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06C-F39A-4B18-BD5C-80FBE627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757F4-F821-474C-86DB-7984459E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10CF7-4634-4768-AB12-BAD12D75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9FD93-757B-46D6-84D5-E0081FE7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77698-4A46-4A08-A334-752B4A9F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F3334-8DF7-4C9B-959F-99E28E11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11898-9323-4DF5-8DDD-DEE2897F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B64692-3C05-4D05-B98A-3928D955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C51D4-83F8-4CFD-9CE9-6F9EB5E6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2B736-5F5D-48C3-9A3A-DC5A00BD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BEE0B-EE99-4011-B12B-88145C60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603-6FF1-49C4-AAEE-AA6419C7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BF1F5B-18A8-4A3F-AA5A-BFE4E4BC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AD70A-831E-4C30-B216-C65C0EF5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A0D44-763E-45A9-A731-76DCFFD8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18450-456B-49C9-A99E-3AEDE454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16F4F-2261-478B-B91B-06A009B3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DEFD2-FCFD-4B2D-A1DE-8B7C5BAB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E72F2-298D-46B4-B7A1-96F563B9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6375C-57C9-4C56-B907-15CD3FB7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C1A4C-55FB-4302-98CF-7E8A5FE3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819A9-DE22-4421-9475-BAB59A26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8BA-CA6A-402F-8BD7-D245BE9A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263B4-8D92-4AE9-BF13-97060F07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C369E-A24E-43FA-A9ED-2BDE3CB6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09E0B-BD3E-4117-950A-09890CF4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B250E1-5BF4-49C2-82AA-04B02740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11B0DF-FC5C-4B7A-8F4B-3FBBEE0F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D92BE-58A4-4921-9E5F-8228D8AB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6E178-16F4-4BB9-9A16-05A7FCF0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84CC3-5BA3-4683-95E0-C5E82A5A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2408D-FC8A-431F-ABBD-A98902B4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1C151C-8D78-434F-B6A8-981DCFB9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025-FF14-4784-B184-5A14B181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1BCCAF-A988-48A8-A3F4-D46C9DA5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31C97-7C8E-4083-80BC-8517B4BB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C671A2-943C-4C77-BE2E-17F42690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33313-25B3-4C8C-8FE5-F20A091F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8DD1E3-7FE9-4755-8120-BC9E1C1D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DD970-1504-4FBA-A310-FF9BA800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46B85-30C6-4656-BA70-32C73B5C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F6453-5D04-416E-A887-2711F713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3EFBF-472C-4B03-B03C-A635857E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ED057-061D-44E0-99D6-DFF52B59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A666-3FF6-4943-BB8C-504D5F2F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A6CA8-3AEA-4623-AF53-31EEF5F7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CF16C-514A-4DC5-84F7-DE2DC0CC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E1B96-BA34-457E-98EF-B88F3770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4BB04-ACA3-4941-986A-AB43AF21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A8F73-38B3-4AB9-B331-4F7AB513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4AEC1-66CC-4465-BAA6-FABFD6E2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B2DB9-017B-44D3-98E9-EAAC9E87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D964-82C3-48EF-A98D-E0DECE173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92D6-139C-4CC3-B707-4C5AF6984D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5A88-90B0-466E-9A92-B3D311F632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7D9D-2D01-4386-BEEA-0CD146DF8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A649-AF59-434D-B1C2-6CF4F467F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459E-D857-48B4-B20A-B84DF5CB3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9465-1771-4059-9C27-F9DBA93300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6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32377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2b2b2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1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1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32377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2b2b2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9D55-019C-4964-BA39-EAE0CFC60C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hyperlink" Target="http://ru.wikipedia.org/wiki/&#1048;&#1079;&#1086;&#1073;&#1088;&#1072;&#1078;&#1077;&#1085;&#1080;&#1077;:Ilja_Muromez.jpg" TargetMode="External"/><Relationship Id="rId7" Type="http://schemas.openxmlformats.org/officeDocument/2006/relationships/slideLayout" Target="../slideLayouts/slideLayout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"/>
              </a:rPr>
              <a:t>Первая мировая война</a:t>
            </a:r>
            <a:br>
              <a:rPr sz="4000"/>
            </a:br>
            <a:r>
              <a:rPr b="0" lang="en-US" sz="3600" spc="-1" strike="noStrike">
                <a:solidFill>
                  <a:srgbClr val="cc0000"/>
                </a:solidFill>
                <a:latin typeface="comic"/>
              </a:rPr>
              <a:t>(28 июля 1914 — 11 ноября 1918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694480" y="4384800"/>
            <a:ext cx="34495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се ищут и не находят причину, по которой началась война. Их поиски тщетны, причину эту они не найдут. Война началась не по какой-то одной причине, война началась по всем причинам с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(Томас Вудро Вильсон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erlin Sans FB"/>
              </a:rPr>
              <a:t>Война и русское обществ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492360" y="476280"/>
            <a:ext cx="2748240" cy="38163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6372360" y="476280"/>
            <a:ext cx="2647800" cy="3816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372360" y="429120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askerville Old Face"/>
              </a:rPr>
              <a:t>Николай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836640"/>
            <a:ext cx="3635280" cy="64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селение России в начале боевых действий переживало патриотический подъем, саму войну называли «Второй Отечественно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Главнокомандующим был назначен дядя императора, великий князь Николай Николаевич, но в августе 1915 года Николай </a:t>
            </a:r>
            <a:r>
              <a:rPr b="1" i="1" lang="en-US" sz="2400" spc="-1" strike="noStrike">
                <a:solidFill>
                  <a:srgbClr val="000000"/>
                </a:solidFill>
                <a:latin typeface="Baskerville Old Face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встал во главе арм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29440" y="5670720"/>
            <a:ext cx="56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askerville Old Face"/>
              </a:rPr>
              <a:t>и с тех пор нёс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-278280" y="602136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askerville Old Face"/>
              </a:rPr>
              <a:t>за все неудачи на фро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-2989440" y="-2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053600" y="4292640"/>
            <a:ext cx="18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иколай </a:t>
            </a:r>
            <a:r>
              <a:rPr b="1" i="1" lang="en-US" sz="2400" spc="-1" strike="noStrike">
                <a:solidFill>
                  <a:srgbClr val="000000"/>
                </a:solidFill>
                <a:latin typeface="Baskerville Old Face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179280" y="4724280"/>
            <a:ext cx="3888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Baskerville Old Face"/>
              </a:rPr>
              <a:t>Император Николай II и командующие фронтами на заседании Ставки.</a:t>
            </a: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256440" y="0"/>
            <a:ext cx="2887560" cy="45813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156360" y="4396320"/>
            <a:ext cx="29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Baskerville Old Face"/>
              </a:rPr>
              <a:t>Николай II, англ.король Георг V и король Бельгии Альберт I.1914.</a:t>
            </a:r>
            <a:r>
              <a:rPr b="1" i="1" lang="en-US" sz="2400" spc="-1" strike="noStrike">
                <a:solidFill>
                  <a:srgbClr val="ffcc66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84720" cy="45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54007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Брусиловский прорыв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6012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askerville Old Face"/>
              </a:rPr>
              <a:t>Брусиловский проры́в (Луцкий прорыв) — наступательная операция Юго-Западного фронта русской армии под командованием генерала А. А. Брусилова во время Первой мировой войны, проведённая 21 мая (3 июня) — 9 (22) августа 1916 года, в ходе которой было нанесено серьезное поражение австро-венгерской армии и заняты Галиция и Буков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213600" y="0"/>
            <a:ext cx="2930400" cy="46879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5780520" y="4797000"/>
            <a:ext cx="35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Алексей Алексе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Брусилов</a:t>
            </a:r>
            <a:r>
              <a:rPr b="1" i="1" lang="en-US" sz="2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708360" y="-171720"/>
            <a:ext cx="3394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skerville Old Face"/>
              </a:rPr>
              <a:t>Николай Гумилёв</a:t>
            </a:r>
            <a:r>
              <a:rPr b="1" lang="en-US" sz="4400" spc="-1" strike="noStrike">
                <a:solidFill>
                  <a:srgbClr val="b2b2b2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2b2b2"/>
              </a:solidFill>
              <a:latin typeface="Garamond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3716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771280" y="765000"/>
            <a:ext cx="5843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Baskerville Old Face"/>
              </a:rPr>
              <a:t>Родился в семье морского врача Степана Яковлевича Гумилёва. Мать — Гумилёва Анна Ивановн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Baskerville Old Face"/>
              </a:rPr>
              <a:t>Детские годы Гумилёв провёл в Царском Селе, там же поступил в гимназию в 1903 году. После окончания гимназии уехал в Париж, в Сорбонн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Baskerville Old Face"/>
              </a:rPr>
              <a:t>С 1914 по 1918 год находился в действующей армии, затем — в штабе Русского экспедиционного корпуса в Париж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Baskerville Old Face"/>
              </a:rPr>
              <a:t>Приказом по Гвардейскому кавалерийскому корпусу от 5 января 1915 года № 148б награжден Георгиевским крестом 4-й степени. 28 марта 1916 года произведён в прапорщики с переводом в 5-й Гусарский Александрийский пол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Baskerville Old Face"/>
              </a:rPr>
              <a:t>В 1916 году вышел сборник «Колчан», в который вошли некоторые стихи на военную тем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Baskerville Old Face"/>
              </a:rPr>
              <a:t>В 1917 году проходил службу в Париже в качестве адъютанта при комиссаре Временного правительств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Baskerville Old Face"/>
              </a:rPr>
              <a:t>В 1921 году (3 августа) Николай был арестован, по подозрению в участии в заговоре «Петроградской боевой организации В. Н. Таганцева» и расстрелян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Baskerville Old Face"/>
              </a:rPr>
              <a:t>В 1992 году Гумилёв был реабилитирован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"/>
          <p:cNvSpPr/>
          <p:nvPr/>
        </p:nvSpPr>
        <p:spPr>
          <a:xfrm>
            <a:off x="4172400" y="404640"/>
            <a:ext cx="22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askerville Old Face"/>
              </a:rPr>
              <a:t>(1886 - 19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03640" y="189000"/>
            <a:ext cx="5410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андр Блок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59280" y="1628640"/>
            <a:ext cx="5905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da82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a8200"/>
                </a:solidFill>
                <a:latin typeface="Baskerville Old Face"/>
              </a:rPr>
              <a:t>В творчестве Блока прису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da82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a8200"/>
                </a:solidFill>
                <a:latin typeface="Baskerville Old Face"/>
              </a:rPr>
              <a:t>осмысление «страшного мира» (одноименный цикл 1908—1916), осознание трагедии современного человека (пьеса «Роза и крест», 1912—1913) пришёл к идее неизбежности «возмездия» (одноименный цикл 1907-13; цикл «Ямбы», 1907—1914; поэма «Возмездие», 1910—1921). Главные темы поэзии нашли разрешение в цикле «Родина» (1907-16). Октябрьскую революцию пытался осмыслить в поэме «Двенадцать» (1918), публицистике. Переосмысление революционных событий и судьбы России сопровождалось глубоким творческим кризисом и депресс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6040" cy="45086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059280" y="402840"/>
            <a:ext cx="60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a8200"/>
                </a:solidFill>
                <a:latin typeface="Baskerville Old Face"/>
              </a:rPr>
              <a:t>Александр Александрович Блок (16 (28) ноября 1880 — 7 августа 1921) — русский поэт</a:t>
            </a:r>
            <a:r>
              <a:rPr b="1" i="1" lang="en-US" sz="2400" spc="-1" strike="noStrike">
                <a:solidFill>
                  <a:srgbClr val="da82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19280" y="-36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Baskerville Old Face"/>
              </a:rPr>
              <a:t>Александр Вертинский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600000" y="549360"/>
            <a:ext cx="55436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тинский Александр Николаевич (1889 – 1957), выдающийся актер, автор и исполнитель романсов и песен. Лауреат Государственной премии СССР (1951 г.)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ился Александр Вертинский 22 марта 1889 г. в Киев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ёл богемный образ жизни, участвовал в скандальных выступлениях футуристов, злоупотреблял кокаином. Во время Первой мировой войны стал медбратом в санитарном эшел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революции 1917 г. Вертинский покинул Россию. В эмиграции Вертинский продолжал сниматься в кино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оссию Александр Вертинский вернулся в конце 1943 г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951 г. А.Н. Вертинский стал Лауреатом Государственной премии СССР за участие в фильме "Заговор обреченных"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р А. Н Вертинский на гастролях от сердечной недостаточности 21 мая 1957 г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494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5400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-360" y="5660640"/>
            <a:ext cx="88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Baskerville Old Face"/>
              </a:rPr>
              <a:t>Брестский мирный договор - мирный договор между участниками Первой мировой войны: Германией, Австро-Венгрией, Болгарией и Османской империей, с одной стороны, и Советской Россией с другой, подписанный 3 марта 1918 года в Брест-Литовс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5219640" y="0"/>
            <a:ext cx="3924360" cy="39337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5292720" y="4004280"/>
            <a:ext cx="385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skerville Old Face"/>
              </a:rPr>
              <a:t>Немецкие офицеры встречают советскую делегацию в Брест-Литовске.</a:t>
            </a: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932360" cy="56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тоги Перв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219280" y="476280"/>
            <a:ext cx="37083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1919 году немцы были вынуждены подписать Версальский мирный договор, который был составлен государствами-победителями на Парижской мирной конфере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5292720" cy="40780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292720" y="3067560"/>
            <a:ext cx="37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askerville Old Face"/>
              </a:rPr>
              <a:t>Слева направо: Дэвид Ллойд Джордж, Витторио Эмануэль Орландо, Жорж Клемансо, Вудро Виль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4715280"/>
            <a:ext cx="878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Результатами Первой мировой войны стали ликвидация четырёх империй: Германской, Российской, Австро-Венгерской и Османской, причём две последние были разделены, а Германия и Россия, перестав быть монархиями, были урезаны территориально и ослаблены экономически. Реваншистские настроения в Германии фактически привели ко Второй мировой вой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Felix Titling"/>
              </a:rPr>
              <a:t>Начало Первой мировой войны</a:t>
            </a:r>
            <a:r>
              <a:rPr b="0" i="1" lang="en-US" sz="2400" spc="-1" strike="noStrike">
                <a:solidFill>
                  <a:srgbClr val="ff0000"/>
                </a:solidFill>
                <a:latin typeface="Felix Titling"/>
              </a:rPr>
              <a:t>: </a:t>
            </a:r>
            <a:r>
              <a:rPr b="0" i="1" lang="ru-RU" sz="2400" spc="-1" strike="noStrike">
                <a:solidFill>
                  <a:srgbClr val="ff0000"/>
                </a:solidFill>
                <a:latin typeface="Felix Titling"/>
              </a:rPr>
              <a:t>причины и масшта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4154760" cy="4680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5076720" y="692280"/>
            <a:ext cx="3665520" cy="46368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788000" y="5516640"/>
            <a:ext cx="403848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Антанта - военно-политический блок Англии, Франции и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7640" y="5444640"/>
            <a:ext cx="4181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Тройственный союз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военно-политический блок Германии, Австро-Венгрии и Итал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43280" y="-171720"/>
            <a:ext cx="439272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Blackadder ITC"/>
              </a:rPr>
              <a:t>Сараевское убийств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78920" y="4797360"/>
            <a:ext cx="3745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ранц Фердинан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эрцгерцог австрийский, с 1896 наследник престола Австро-Венгр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5364000" y="549360"/>
            <a:ext cx="3167280" cy="41050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859280" y="4652640"/>
            <a:ext cx="4284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Гаврило Принцип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«югославский националист» из Боснии, 28 июня 1914 года убивший австрийского престолонаследника Франца Фердинан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395280" y="549360"/>
            <a:ext cx="331164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78920" y="5300280"/>
            <a:ext cx="3467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Bell MT"/>
              </a:rPr>
              <a:t>Вильгельм </a:t>
            </a:r>
            <a:r>
              <a:rPr b="1" i="1" lang="en-US" sz="2400" spc="-1" strike="noStrike">
                <a:solidFill>
                  <a:srgbClr val="cc3300"/>
                </a:solidFill>
                <a:latin typeface="Bell MT"/>
              </a:rPr>
              <a:t>II</a:t>
            </a:r>
            <a:r>
              <a:rPr b="1" i="1" lang="ru-RU" sz="2400" spc="-1" strike="noStrike">
                <a:solidFill>
                  <a:srgbClr val="cc3300"/>
                </a:solidFill>
                <a:latin typeface="Bell MT"/>
              </a:rPr>
              <a:t> - германский император и король Пру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716360" y="5157720"/>
            <a:ext cx="42595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Bell MT"/>
              </a:rPr>
              <a:t>Франц – Иосиф - император Австрии и апостолический король Венг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3446280" cy="49687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5003640" y="115920"/>
            <a:ext cx="33624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Милитаризация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4500720" cy="244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4284720" cy="24368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00720" cy="2498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5"/>
          <a:stretch/>
        </p:blipFill>
        <p:spPr>
          <a:xfrm>
            <a:off x="4932360" y="3429000"/>
            <a:ext cx="4211640" cy="25192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78920" y="2852280"/>
            <a:ext cx="40388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глийски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нк Mark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5292720" y="5950080"/>
            <a:ext cx="32400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.8 мм миномёт. Первая Мировая Войн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9280" y="5576760"/>
            <a:ext cx="4284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вый в мире многомоторный бомбардировщик «Илья Муромец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292720" y="2492280"/>
            <a:ext cx="3457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рманская UC-1 первой мировой вой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724000" y="3429000"/>
            <a:ext cx="3419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льшая Бе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емецкое оруд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либр составлял 420 мм, вес снарядов достигал 820 килограммов, а дальность стрельбы — 15 кило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78920" y="2924280"/>
            <a:ext cx="3313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лемёт Макс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00720" y="2924280"/>
            <a:ext cx="40384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лдаты в противога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708360" y="0"/>
            <a:ext cx="5435640" cy="2852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92360" cy="28526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0" y="3500280"/>
            <a:ext cx="536400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5673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лан Шлиффен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435280" y="6093000"/>
            <a:ext cx="3492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da82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a8200"/>
                </a:solidFill>
                <a:latin typeface="Bell MT"/>
              </a:rPr>
              <a:t>Альфред фон Шли́ффен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5950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5508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897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сточный фрон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5702400" y="0"/>
            <a:ext cx="3441600" cy="4365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443640" y="4722480"/>
            <a:ext cx="27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erlin Sans FB"/>
              </a:rPr>
              <a:t>Александр Васильевич Самсонов</a:t>
            </a:r>
            <a:r>
              <a:rPr b="1" i="1" lang="en-US" sz="2400" spc="-1" strike="noStrike">
                <a:solidFill>
                  <a:srgbClr val="99ff33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4000" y="-5400"/>
            <a:ext cx="40669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ff"/>
                </a:solidFill>
                <a:latin typeface="Baskerville Old Face"/>
              </a:rPr>
              <a:t>В начале Первой мировой войны командовал 2-й армией. В ходе Восточно-Прусской операции 1914 2-я армия потерпела сокрушительное поражение в битве при Танненберге, её большая часть (5 дивизий) была окружена и уничтожена.</a:t>
            </a:r>
            <a:r>
              <a:rPr b="1" i="1" lang="ru-RU" sz="2400" spc="-1" strike="noStrike">
                <a:solidFill>
                  <a:srgbClr val="3399ff"/>
                </a:solidFill>
                <a:latin typeface="Baskerville Old Face"/>
              </a:rPr>
              <a:t> При выходе из окружения Александр Васильевич Самсонов погиб, по наиболее распространённой из версий считается, что он застрелил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41800" cy="45356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0" y="479736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ннекампф П.К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3924360" y="188640"/>
            <a:ext cx="4968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Berlin Sans FB"/>
              </a:rPr>
              <a:t>В начальный период Первой мировой войны Реннекампф получил командование 1-й армией Северо-Западного фронта во время Восточно-Прусской операции. Его действия в сражении у Танненберга, в особенности плохая координация действий со 2-й армией вызвали резкую критику командующего операцией генерала Жилинского вплоть до попытки отстранения Ренненкмпфа от должности. Ренненкампф, игнорируя приказ Ставки, не пришёл на помощь армии Самсонова, в результате чего она была окружена и разбита, а Самсонов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9:22:10Z</dcterms:created>
  <dc:creator>Кузовлев Никита</dc:creator>
  <dc:description/>
  <dc:language>en-US</dc:language>
  <cp:lastModifiedBy>Кузовлев Никита</cp:lastModifiedBy>
  <dcterms:modified xsi:type="dcterms:W3CDTF">2007-03-17T19:14:55Z</dcterms:modified>
  <cp:revision>10</cp:revision>
  <dc:subject/>
  <dc:title>Первая </dc:title>
</cp:coreProperties>
</file>